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9.jpeg" ContentType="image/jpeg"/>
  <Override PartName="/ppt/media/image3.jpeg" ContentType="image/jpeg"/>
  <Override PartName="/ppt/media/image4.wmf" ContentType="image/x-wmf"/>
  <Override PartName="/ppt/media/image5.wmf" ContentType="image/x-wmf"/>
  <Override PartName="/ppt/media/image6.jpeg" ContentType="image/jpeg"/>
  <Override PartName="/ppt/media/image7.wmf" ContentType="image/x-wmf"/>
  <Override PartName="/ppt/media/image11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4F77-801D-48C2-AA64-2DB465FAA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22D3-CC0E-4A51-953D-E62C6B1CA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4644-705B-4E21-83CD-31ACE18C0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B752-8C1F-41F6-8CB4-7BF864F56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BB17-D871-4E64-9DF1-5627459EA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D8B4-DE99-4A81-87BA-EECAB1FC1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15F9-7BAC-4D0F-9005-B0DCD451A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8F0D-2F0E-4D2B-8DED-AD7BE5548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F15C-69AF-4CCB-88DF-027AA1045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738A-A03C-40C4-B089-EAEF4B1BB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24B3-3779-4F41-9AF1-00BD52FD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596D-FB33-405C-8B05-AD15D5FC0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4A382-3B71-4A10-B7A4-B2F4D53182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tm.ask.com/r?t=an&amp;s=p&amp;uid=052B37403B1A67D34&amp;sid=1C5C87403B1A67D34&amp;o=0&amp;qid=6D3B7925960569EAA9C3D2EC4EE35DFF&amp;io=1&amp;sv=0a30051c&amp;ask=muscle+tissue&amp;uip=d4dbf7e5&amp;en=pi&amp;eo=&amp;pt=&amp;ac=18&amp;qs=31&amp;pg=5&amp;u=http%3A%2F%2Fpictures.ask.com%2Ffr%3Fq%3Dmuscle%2Btissue%26desturi%3Dhttp%253A%252F%252Fwww.cals.ncsu.edu%252Fcourse%252Fzo250%252Fmuscle.html%26fm%3Di%26ac%3D18%26ftURI%3Dhttp%253A%252F%252Fpictures.ask.com%253A80%252Ffr%253Fq%253Dmuscle%252Btissue%2526desturi%253Dhttp%25253A%25252F%25252Fwww.cals.ncsu.edu%25252Fcourse%25252Fzo250%25252Fmuscle.html%2526imagesrc%253Dhttp%25253A%25252F%25252Fwww.cals.ncsu.edu%25252Fcourse%25252Fzo250%25252Fskeletal-muscle.jpg%2526thumbsrc%253Dhttp%25253A%25252F%25252F65.214.37.88%25252Fts%25253Ft%25253D14868575377488000076%2526fn%253Dskeletal-muscle.jpg%2526f%253D2%2526fm%253Di%2526ftbURI%253Dhttp%25253A%25252F%25252Fpictures.ask.com%25252Fpictures%25253Fq%25253Dmuscle%25252Btissue%252526page%25253D5%26qt%3D0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6000" spc="-1" strike="noStrike">
                <a:solidFill>
                  <a:srgbClr val="008000"/>
                </a:solidFill>
                <a:latin typeface="Arial"/>
              </a:rPr>
              <a:t>Patterns in lif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3573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y Joanna Fellows &amp; Euan Laur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Arial"/>
              </a:rPr>
              <a:t>Plant Org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lants have organs just like humans 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are fruit, leaf, flower, stem and the ro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435640" y="2060640"/>
            <a:ext cx="253044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900000" y="2133720"/>
            <a:ext cx="7272360" cy="25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77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THE END!!</a:t>
            </a:r>
            <a:endParaRPr b="0" i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33cc"/>
                </a:solidFill>
                <a:latin typeface="Arial"/>
              </a:rPr>
              <a:t>Living th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All living things have things in common, they all breathe, move, grow, eat, reproduce, get rid of waste and react to things that happen around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276720" y="3573360"/>
            <a:ext cx="2808000" cy="258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5400" spc="-1" strike="noStrike">
                <a:solidFill>
                  <a:srgbClr val="003300"/>
                </a:solidFill>
                <a:latin typeface="Arial"/>
              </a:rPr>
              <a:t>Plan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45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Arial"/>
              </a:rPr>
              <a:t>Plants breathe by opening tiny holes in their leaves called stoma which let in the oxy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5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Arial"/>
              </a:rPr>
              <a:t>Plants do not move from place to place they move their leaves  towards the lig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5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Arial"/>
              </a:rPr>
              <a:t>Most plants grow from seeds. Seeds are made when pollen grains join up with an ov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5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Arial"/>
              </a:rPr>
              <a:t>Plants make their own food by using water and carbon dioxide from the ai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5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Arial"/>
              </a:rPr>
              <a:t>Plants react to light, their leaves follow the sun and some plants have flowers that open in the morning and close at night when it is da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5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Arial"/>
              </a:rPr>
              <a:t>Many plants keep waste in their leaves these drop off in autumn</a:t>
            </a:r>
            <a:r>
              <a:rPr b="1" lang="en-GB" sz="18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SUNFLOWERS02"/>
          <p:cNvPicPr/>
          <p:nvPr/>
        </p:nvPicPr>
        <p:blipFill>
          <a:blip r:embed="rId2"/>
          <a:stretch/>
        </p:blipFill>
        <p:spPr>
          <a:xfrm>
            <a:off x="4643280" y="1557360"/>
            <a:ext cx="4032360" cy="46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ff0000"/>
                </a:solidFill>
                <a:latin typeface="Arial"/>
              </a:rPr>
              <a:t>Anim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6600"/>
                </a:solidFill>
                <a:latin typeface="Arial"/>
              </a:rPr>
              <a:t>All animals breathe a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Arial"/>
              </a:rPr>
              <a:t>.Animals move from place to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Arial"/>
              </a:rPr>
              <a:t>.Most animals come from egg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Arial"/>
              </a:rPr>
              <a:t>.Animals eat plants or other anim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Arial"/>
              </a:rPr>
              <a:t>.All animals get rid of waste which they have to 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Arial"/>
              </a:rPr>
              <a:t>.All animals react to things because they must be aware of what is happening around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43280" y="2070000"/>
            <a:ext cx="4249800" cy="342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ving things are made up of cells, just like bricks make a hou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ant cells are different from animal cells. They have different par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oth cells have a nucleus and a cell membra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476360" y="1125360"/>
            <a:ext cx="1917720" cy="20466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942840" y="3938760"/>
            <a:ext cx="3065760" cy="21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Arial"/>
              </a:rPr>
              <a:t>Kinds of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lood cells carry oxygen around the bod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uard cells open and close the stoma In lea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rve cells carry a message from one part of the body to the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erm cells swim to the female eggs and try and join up with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349960" y="1341360"/>
            <a:ext cx="318276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ffff00"/>
                </a:solidFill>
                <a:latin typeface="Arial"/>
              </a:rPr>
              <a:t>T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ff66"/>
                </a:solidFill>
                <a:latin typeface="Arial"/>
              </a:rPr>
              <a:t>The cells in our bodies do not work alone they work as part of a tissue. A tissue is made up of lots of cells of the same kind which work together. Organs are made up of lots of tiss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2060640"/>
            <a:ext cx="336564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ll living things in the world can be split up into two groups, these can then be split up into smaller grou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two groups are plants and anim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imals are split up into vertebrates and invertebr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lants are split into non-flowering and flowe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imal classification diagrams are similar to this one of pla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00720" y="2060640"/>
            <a:ext cx="4356000" cy="388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Arial"/>
              </a:rPr>
              <a:t>Vari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share the earth with 1.5 million kinds of living th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re are different varieties of all the living th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.g. not all cats are the same and not all roses are the s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796000" y="2060640"/>
            <a:ext cx="2568600" cy="3529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0T10:08:29Z</dcterms:created>
  <dc:creator>FellowsJ</dc:creator>
  <dc:description/>
  <dc:language>en-US</dc:language>
  <cp:lastModifiedBy>fellowsJ</cp:lastModifiedBy>
  <dcterms:modified xsi:type="dcterms:W3CDTF">2006-01-26T15:17:57Z</dcterms:modified>
  <cp:revision>8</cp:revision>
  <dc:subject/>
  <dc:title>PATTERNS IN LIFE</dc:title>
</cp:coreProperties>
</file>